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D502-6A6A-4273-A7B3-669F4DE0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7FE-96AC-4DAE-8109-31D80FD9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B5A-8B6A-4A42-91BA-EB631F64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576-8CA7-49C1-B0F2-7C320F53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378F-F731-484A-A1BD-3CB55A7E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E52-770B-4C8A-A61F-5B1500C8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E88-DF31-4C27-9180-DFDE87E9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7165-5580-4157-9996-61896BB7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9B7E-9FB7-40ED-A5B9-F3C2DECC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96F-4CA7-4C64-943A-92F0794C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545-3EF7-4F56-9735-6C2C9D86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99BC-6B09-48C0-8B34-E914A81A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FBB0-3BDE-47AB-834A-BF8720A547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5A25-2914-41C5-BC67-BE37DF4637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4904" t="15221" r="20459" b="15124"/>
          <a:stretch/>
        </p:blipFill>
        <p:spPr>
          <a:xfrm>
            <a:off x="-19080" y="20520"/>
            <a:ext cx="9137520" cy="6837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rcRect l="14904" t="15221" r="20459" b="15124"/>
          <a:stretch/>
        </p:blipFill>
        <p:spPr>
          <a:xfrm>
            <a:off x="-161928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612720" y="258840"/>
            <a:ext cx="6912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2630520" y="2205000"/>
            <a:ext cx="41734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一个苹果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580000" y="5730840"/>
            <a:ext cx="3240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476280" y="654120"/>
            <a:ext cx="8205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952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月上甘岭战役打响了。这是朝鲜战场上最激烈的一次阵地战。</a:t>
            </a:r>
            <a:br>
              <a:rPr sz="2000"/>
            </a:b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　　黄继光所在的营已经持续战斗了四天四夜；第五天夜晚接到上级的命令，要在黎明之前夺下敌人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97.9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高地。</a:t>
            </a:r>
            <a:br>
              <a:rPr sz="2000"/>
            </a:b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　　进攻开始了，大炮在轰鸣。战士们占领了一个又一个山头，就要到达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97.9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高地的主峰了。突然，敌人一个火力点凶猛地射击起来。战士们屡次突击，都被比雨点还密的枪弹压了回来。</a:t>
            </a:r>
            <a:br>
              <a:rPr sz="2000"/>
            </a:b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　　东方升起了启明星，指导员看看表，已经四点多了。如果不快摧毁这个火力点，在黎明前就攻不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97.9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高地的主峰，已经夺得的那些山头就会全部丢失。</a:t>
            </a:r>
            <a:br>
              <a:rPr sz="2000"/>
            </a:b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　　黄继光愤怒地注视着敌人的火力点，他转过身来坚定地对指导员说：“指导员，请把这个任务交给我吧！”指导员紧握着黄继光的手，说：“好，我相信你一定能完成这个光荣而艰巨的任务。”</a:t>
            </a:r>
            <a:br>
              <a:rPr sz="2000"/>
            </a:b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　　黄继光带上两个战士，拿了手雷，喊了一声“让祖国人民听我们胜利的消息吧”，向敌人的火力点爬去。</a:t>
            </a:r>
            <a:br>
              <a:rPr sz="2000"/>
            </a:b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　　敌人发现他们了。无数照明弹升上天空，黑夜变成了白天。炮弹在他们周围爆炸。他们冒着浓烟，冒着烈火，匍匐前进。一个战士牺牲了，另一个战士也负伤了。摧毁火力点的重任落在了黄继光一个人的肩上。</a:t>
            </a:r>
            <a:br>
              <a:rPr sz="2000"/>
            </a:b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780000" y="10944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黄  继  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WordArt 4" descr=""/>
          <p:cNvPicPr/>
          <p:nvPr/>
        </p:nvPicPr>
        <p:blipFill>
          <a:blip r:embed="rId1"/>
          <a:stretch/>
        </p:blipFill>
        <p:spPr>
          <a:xfrm>
            <a:off x="85680" y="-42840"/>
            <a:ext cx="19447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720720" y="549360"/>
            <a:ext cx="78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火力点里的敌人把机枪对准黄继光，子弹像冰雹一样射过来。黄继光肩上腿上都负了伤。他用尽全身的力气，更加顽强地向前爬，还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米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米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近了，更近了。</a:t>
            </a:r>
            <a:br>
              <a:rPr sz="2000"/>
            </a:b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　　啊！黄继光突然站起来了！在暴风雨一样的子弹中站起来了！他举起右臂，手雷在探照灯的光亮中闪闪发光。</a:t>
            </a:r>
            <a:br>
              <a:rPr sz="2000"/>
            </a:b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　　轰！敌人的火力点塌了半边，黄继光晕倒了。战士们赶紧冲上去，不料才冲到半路，敌人的机枪又叫起来，战士们被压在山坡上。</a:t>
            </a:r>
            <a:br>
              <a:rPr sz="2000"/>
            </a:b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　　天快亮了，规定的时间马上到了。指导员正在着急，只见黄继光又站起来了！他张开双臂，向喷射着火舌的火力点猛扑上去，用自己的胸膛堵住了敌人的枪口。</a:t>
            </a:r>
            <a:br>
              <a:rPr sz="2000"/>
            </a:b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　　“冲啊！为黄继光报仇！”喊声惊天动地。战士们像海涛一样向上冲，占领了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97.9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高地，消灭了阵地上的全部敌人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860400" y="5157720"/>
            <a:ext cx="64483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思考：读完后你从中体会到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0071025928289383"/>
          <p:cNvPicPr/>
          <p:nvPr/>
        </p:nvPicPr>
        <p:blipFill>
          <a:blip r:embed="rId1"/>
          <a:srcRect l="0" t="0" r="1928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91" name="WordArt 3"/>
          <p:cNvSpPr txBox="1"/>
          <p:nvPr/>
        </p:nvSpPr>
        <p:spPr>
          <a:xfrm rot="5400000">
            <a:off x="-98280" y="2698560"/>
            <a:ext cx="3600360" cy="1028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9900"/>
                </a:solidFill>
                <a:latin typeface="宋体"/>
              </a:rPr>
              <a:t>推荐阅读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203640" y="1755720"/>
            <a:ext cx="4681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黄继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邱少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见了，亲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罗盛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908000" y="2206800"/>
            <a:ext cx="60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固执    喉咙    烟熏火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诱人    动员      沉静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幸福    骄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68360" y="404640"/>
            <a:ext cx="4608720" cy="936720"/>
          </a:xfrm>
          <a:custGeom>
            <a:avLst/>
            <a:gdLst>
              <a:gd name="textAreaLeft" fmla="*/ 1152000 w 4608720"/>
              <a:gd name="textAreaRight" fmla="*/ 3456720 w 4608720"/>
              <a:gd name="textAreaTop" fmla="*/ 11736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8" stAng="16200000" swAng="5400000"/>
                <a:lnTo>
                  <a:pt x="8100" y="2712"/>
                </a:lnTo>
                <a:lnTo>
                  <a:pt x="13500" y="2712"/>
                </a:lnTo>
                <a:lnTo>
                  <a:pt x="13500" y="678"/>
                </a:lnTo>
                <a:arcTo wR="675" hR="678" stAng="10800000" swAng="5400000"/>
                <a:lnTo>
                  <a:pt x="21600" y="0"/>
                </a:lnTo>
                <a:lnTo>
                  <a:pt x="18900" y="9444"/>
                </a:lnTo>
                <a:lnTo>
                  <a:pt x="21600" y="18888"/>
                </a:lnTo>
                <a:lnTo>
                  <a:pt x="16200" y="18888"/>
                </a:lnTo>
                <a:lnTo>
                  <a:pt x="16200" y="20922"/>
                </a:lnTo>
                <a:arcTo wR="675" hR="678" stAng="0" swAng="5400000"/>
                <a:lnTo>
                  <a:pt x="6075" y="21600"/>
                </a:lnTo>
                <a:arcTo wR="675" hR="678" stAng="5400000" swAng="5400000"/>
                <a:lnTo>
                  <a:pt x="5400" y="18888"/>
                </a:lnTo>
                <a:lnTo>
                  <a:pt x="0" y="18888"/>
                </a:lnTo>
                <a:lnTo>
                  <a:pt x="2700" y="9444"/>
                </a:lnTo>
                <a:close/>
              </a:path>
              <a:path fill="none" w="21600" h="21600">
                <a:moveTo>
                  <a:pt x="8100" y="678"/>
                </a:moveTo>
                <a:arcTo wR="675" hR="678" stAng="0" swAng="5400000"/>
                <a:lnTo>
                  <a:pt x="6075" y="1356"/>
                </a:lnTo>
                <a:arcTo wR="675" hR="678" stAng="16200000" swAng="-5400000"/>
                <a:arcTo wR="675" hR="678" stAng="10800000" swAng="-5400000"/>
                <a:lnTo>
                  <a:pt x="8100" y="2712"/>
                </a:lnTo>
              </a:path>
              <a:path fill="none" w="21600" h="21600">
                <a:moveTo>
                  <a:pt x="13500" y="678"/>
                </a:moveTo>
                <a:arcTo wR="675" hR="678" stAng="10800000" swAng="-5400000"/>
                <a:lnTo>
                  <a:pt x="15525" y="1356"/>
                </a:lnTo>
                <a:arcTo wR="675" hR="678" stAng="16200000" swAng="5400000"/>
                <a:arcTo wR="675" hR="678" stAng="0" swAng="5400000"/>
                <a:lnTo>
                  <a:pt x="13500" y="2712"/>
                </a:lnTo>
              </a:path>
              <a:path fill="none" w="21600" h="21600">
                <a:moveTo>
                  <a:pt x="5400" y="2034"/>
                </a:moveTo>
                <a:lnTo>
                  <a:pt x="5400" y="18888"/>
                </a:lnTo>
              </a:path>
              <a:path fill="none" w="21600" h="21600">
                <a:moveTo>
                  <a:pt x="16200" y="2034"/>
                </a:moveTo>
                <a:lnTo>
                  <a:pt x="16200" y="18888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492360" y="549360"/>
            <a:ext cx="20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读一读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3"/>
          <p:cNvSpPr/>
          <p:nvPr/>
        </p:nvSpPr>
        <p:spPr>
          <a:xfrm>
            <a:off x="2340000" y="260280"/>
            <a:ext cx="4392720" cy="1041480"/>
          </a:xfrm>
          <a:custGeom>
            <a:avLst/>
            <a:gdLst>
              <a:gd name="textAreaLeft" fmla="*/ 1098000 w 4392720"/>
              <a:gd name="textAreaRight" fmla="*/ 3294720 w 4392720"/>
              <a:gd name="textAreaTop" fmla="*/ 0 h 1041480"/>
              <a:gd name="textAreaBottom" fmla="*/ 911520 h 1041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47640" y="1641600"/>
            <a:ext cx="5977080" cy="18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正确、流利、有感情地朗读课文，体会人物的内心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理解课文内容，感受志愿军战士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相互关心、团结友爱的深厚情谊，以及他们在危难时刻为他人着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高尚品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体会文章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有详有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记叙，懂得详略分明的好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3098880" y="333360"/>
            <a:ext cx="27478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学习目标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3276720" y="485640"/>
            <a:ext cx="21621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读一读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131920" y="2205000"/>
            <a:ext cx="438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900000" y="1276200"/>
            <a:ext cx="74883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声朗读课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---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然段，做到胸中有文，并思考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你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中哪些地方可以看出战士们需要水，需要这个苹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自学提示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用“—”画出描写战士神态、外貌、心理活动等语句，并做好批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仔细品读所画的语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时间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14904" t="15221" r="20459" b="15124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611280" y="333360"/>
            <a:ext cx="7993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嘴唇干得裂了好几道口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脸上挂满灰尘，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两只眼睛布满了血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063520" y="2060640"/>
            <a:ext cx="3969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脸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黑黄黑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，嘴唇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干得发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771640" y="4653000"/>
            <a:ext cx="35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所有人的写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3"/>
          <p:cNvSpPr txBox="1"/>
          <p:nvPr/>
        </p:nvSpPr>
        <p:spPr>
          <a:xfrm>
            <a:off x="2987640" y="412920"/>
            <a:ext cx="22716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说一说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258920" y="1347840"/>
            <a:ext cx="70581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任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认真浏览课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-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然段，思考：在非常干渴的情况下，战士们面对如此诱人的苹果，为什么没有吃完？从中你体会到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332000" y="3429000"/>
            <a:ext cx="6622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温馨提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围绕第一次传递的顺序，试着把战士们当时是“怎样想的，怎样做的”用自己的语言组织起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用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~~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画出最让你感动的句子，并做好批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小组交流。个人汇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时间：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分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340000" y="974880"/>
            <a:ext cx="545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李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出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看着我，回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看了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外几个人，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看了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躺着的伤员小蓝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他接过苹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转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小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0" y="4508640"/>
            <a:ext cx="1619280" cy="234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7643880" y="4508640"/>
            <a:ext cx="1500120" cy="23493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6"/>
          <p:cNvSpPr/>
          <p:nvPr/>
        </p:nvSpPr>
        <p:spPr>
          <a:xfrm>
            <a:off x="3851280" y="4157640"/>
            <a:ext cx="3792600" cy="1143000"/>
          </a:xfrm>
          <a:prstGeom prst="cloudCallout">
            <a:avLst>
              <a:gd name="adj1" fmla="val 65277"/>
              <a:gd name="adj2" fmla="val 64166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  <a:ea typeface="华文行楷"/>
              </a:rPr>
              <a:t>我也说一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892600" y="3048120"/>
            <a:ext cx="49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说说小李看着不同的人，分别在想些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1187280" y="476280"/>
            <a:ext cx="936720" cy="4610160"/>
          </a:xfrm>
          <a:prstGeom prst="cloudCallout">
            <a:avLst>
              <a:gd name="adj1" fmla="val -39828"/>
              <a:gd name="adj2" fmla="val 54888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9"/>
          <p:cNvSpPr txBox="1"/>
          <p:nvPr/>
        </p:nvSpPr>
        <p:spPr>
          <a:xfrm rot="5400000">
            <a:off x="215640" y="267156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宋体"/>
              </a:rPr>
              <a:t>放飞梦想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6"/>
          <p:cNvPicPr/>
          <p:nvPr/>
        </p:nvPicPr>
        <p:blipFill>
          <a:blip r:embed="rId1"/>
          <a:srcRect l="0" t="0" r="0" b="59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WordArt 3"/>
          <p:cNvSpPr txBox="1"/>
          <p:nvPr/>
        </p:nvSpPr>
        <p:spPr>
          <a:xfrm>
            <a:off x="3059280" y="644400"/>
            <a:ext cx="316836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宋体"/>
              </a:rPr>
              <a:t>我手写我心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268360" y="1849320"/>
            <a:ext cx="56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防炮洞里格外沉静，战士们心里在想些什么呢？请拿起你的笔写一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相信自己，我能行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20020410161716952"/>
          <p:cNvPicPr/>
          <p:nvPr/>
        </p:nvPicPr>
        <p:blipFill>
          <a:blip r:embed="rId2"/>
          <a:srcRect l="71649" t="35769" r="13760" b="51547"/>
          <a:stretch/>
        </p:blipFill>
        <p:spPr>
          <a:xfrm rot="496800">
            <a:off x="6516360" y="-298440"/>
            <a:ext cx="172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8"/>
          <p:cNvPicPr/>
          <p:nvPr/>
        </p:nvPicPr>
        <p:blipFill>
          <a:blip r:embed="rId1"/>
          <a:srcRect l="4603" t="4939" r="6287" b="0"/>
          <a:stretch/>
        </p:blipFill>
        <p:spPr>
          <a:xfrm>
            <a:off x="0" y="-47520"/>
            <a:ext cx="8964720" cy="6852960"/>
          </a:xfrm>
          <a:prstGeom prst="rect">
            <a:avLst/>
          </a:prstGeom>
          <a:ln w="0">
            <a:noFill/>
          </a:ln>
        </p:spPr>
      </p:pic>
      <p:sp>
        <p:nvSpPr>
          <p:cNvPr id="79" name="WordArt 3"/>
          <p:cNvSpPr txBox="1"/>
          <p:nvPr/>
        </p:nvSpPr>
        <p:spPr>
          <a:xfrm rot="5340000">
            <a:off x="-447840" y="1928520"/>
            <a:ext cx="2774880" cy="36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宋体"/>
              </a:rPr>
              <a:t>升华主题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619280" y="12175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瞬间，我的喉咙被心中激起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强烈感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堵住了。在这战火纷飞的夜晚，我被这种出自战友间的关怀友爱激动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，迸出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幸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骄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的泪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209760" y="2492280"/>
            <a:ext cx="30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2556000" y="147600"/>
            <a:ext cx="3744720" cy="907920"/>
          </a:xfrm>
          <a:custGeom>
            <a:avLst/>
            <a:gdLst>
              <a:gd name="textAreaLeft" fmla="*/ 936000 w 3744720"/>
              <a:gd name="textAreaRight" fmla="*/ 2808720 w 3744720"/>
              <a:gd name="textAreaTop" fmla="*/ 104760 h 907920"/>
              <a:gd name="textAreaBottom" fmla="*/ 90828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23" stAng="16200000" swAng="5400000"/>
                <a:lnTo>
                  <a:pt x="8100" y="2492"/>
                </a:lnTo>
                <a:lnTo>
                  <a:pt x="13500" y="2492"/>
                </a:lnTo>
                <a:lnTo>
                  <a:pt x="13500" y="623"/>
                </a:lnTo>
                <a:arcTo wR="675" hR="623" stAng="10800000" swAng="5400000"/>
                <a:lnTo>
                  <a:pt x="21600" y="0"/>
                </a:lnTo>
                <a:lnTo>
                  <a:pt x="18900" y="9554"/>
                </a:lnTo>
                <a:lnTo>
                  <a:pt x="21600" y="19108"/>
                </a:lnTo>
                <a:lnTo>
                  <a:pt x="16200" y="19108"/>
                </a:lnTo>
                <a:lnTo>
                  <a:pt x="16200" y="20977"/>
                </a:lnTo>
                <a:arcTo wR="675" hR="623" stAng="0" swAng="5400000"/>
                <a:lnTo>
                  <a:pt x="6075" y="21600"/>
                </a:lnTo>
                <a:arcTo wR="675" hR="623" stAng="5400000" swAng="5400000"/>
                <a:lnTo>
                  <a:pt x="5400" y="19108"/>
                </a:lnTo>
                <a:lnTo>
                  <a:pt x="0" y="19108"/>
                </a:lnTo>
                <a:lnTo>
                  <a:pt x="2700" y="9554"/>
                </a:lnTo>
                <a:close/>
              </a:path>
              <a:path fill="none" w="21600" h="21600">
                <a:moveTo>
                  <a:pt x="8100" y="623"/>
                </a:moveTo>
                <a:arcTo wR="675" hR="623" stAng="0" swAng="5400000"/>
                <a:lnTo>
                  <a:pt x="6075" y="1246"/>
                </a:lnTo>
                <a:arcTo wR="675" hR="623" stAng="16200000" swAng="-5400000"/>
                <a:arcTo wR="675" hR="623" stAng="10800000" swAng="-5400000"/>
                <a:lnTo>
                  <a:pt x="8100" y="2492"/>
                </a:lnTo>
              </a:path>
              <a:path fill="none" w="21600" h="21600">
                <a:moveTo>
                  <a:pt x="13500" y="623"/>
                </a:moveTo>
                <a:arcTo wR="675" hR="623" stAng="10800000" swAng="-5400000"/>
                <a:lnTo>
                  <a:pt x="15525" y="1246"/>
                </a:lnTo>
                <a:arcTo wR="675" hR="623" stAng="16200000" swAng="5400000"/>
                <a:arcTo wR="675" hR="623" stAng="0" swAng="5400000"/>
                <a:lnTo>
                  <a:pt x="13500" y="2492"/>
                </a:lnTo>
              </a:path>
              <a:path fill="none" w="21600" h="21600">
                <a:moveTo>
                  <a:pt x="5400" y="1869"/>
                </a:moveTo>
                <a:lnTo>
                  <a:pt x="5400" y="19108"/>
                </a:lnTo>
              </a:path>
              <a:path fill="none" w="21600" h="21600">
                <a:moveTo>
                  <a:pt x="16200" y="1869"/>
                </a:moveTo>
                <a:lnTo>
                  <a:pt x="16200" y="19108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7"/>
          <p:cNvSpPr txBox="1"/>
          <p:nvPr/>
        </p:nvSpPr>
        <p:spPr>
          <a:xfrm>
            <a:off x="3492360" y="333360"/>
            <a:ext cx="17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宋体"/>
              </a:rPr>
              <a:t>测一测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763640" y="378936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思考：“强烈的感情”是一种什么感情？为什么说逬出的泪花是”幸福“的和”骄傲“的泪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Admin</cp:lastModifiedBy>
  <dcterms:modified xsi:type="dcterms:W3CDTF">2018-08-04T13:03:53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91</vt:lpwstr>
  </property>
</Properties>
</file>